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66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2640" cy="36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592160"/>
            <a:ext cx="50292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44624-F7F7-4C13-8965-1C052EEBEC29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0B80C-E623-492C-85E2-CA018CC87FE3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2640" cy="362592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592160"/>
            <a:ext cx="50292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2EF13-61B0-4457-8381-6E35C982722B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2640" cy="362592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592160"/>
            <a:ext cx="50292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C0383-54F7-4BE0-B309-62669ECED26C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2640" cy="362592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592160"/>
            <a:ext cx="50292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918540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8F256-9F5E-41C3-8F64-A8C25AC3E9F1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2640" cy="36259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592160"/>
            <a:ext cx="50292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4A1C-E5E0-4253-B120-E3FF0EE3F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9188-6171-4599-A3DF-336F75621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16E6-63C4-4F4D-A8C6-FD52959A2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8F2B-43B9-4B5B-92C4-CA8ACEF1E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439C-CBA5-422D-8980-4B1FD7636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5A36-6071-4E46-ABDB-395F32A9B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8BD1-D12B-43BF-93D6-FB54D76F9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BA00-7C31-49DD-88E0-F8D4A0494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96C9-85A7-416B-8C7D-BE565DDAE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819E-2D43-47F6-83E4-49479C3F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642E-63B6-4A43-BDA3-D8FB1D92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8E8C-2F6B-4588-B65D-790588CE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03BCA-9D77-4249-8573-B0CA4867829F}" type="slidenum"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143000" y="2286000"/>
            <a:ext cx="6934320" cy="71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NEUS</a:t>
            </a:r>
            <a:endParaRPr b="0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WordArt 4"/>
          <p:cNvSpPr txBox="1"/>
          <p:nvPr/>
        </p:nvSpPr>
        <p:spPr>
          <a:xfrm rot="20275200">
            <a:off x="296640" y="3082680"/>
            <a:ext cx="8550000" cy="690480"/>
          </a:xfrm>
          <a:prstGeom prst="rect">
            <a:avLst/>
          </a:prstGeom>
        </p:spPr>
        <p:txBody>
          <a:bodyPr wrap="none" lIns="90000" rIns="90000" tIns="46800" bIns="46800" anchor="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Times New Roman"/>
              </a:rPr>
              <a:t>FAÇA A ESCOLHA CORRECT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Pneu Rad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As flexões não são transmitidas à banda de rola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wis721 BdOul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800" spc="-1" strike="noStrike">
                <a:solidFill>
                  <a:srgbClr val="000000"/>
                </a:solidFill>
                <a:latin typeface="Swis721 BdOul BT"/>
              </a:rPr>
              <a:t>DAÍ RESUL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Object 4"/>
          <p:cNvGraphicFramePr/>
          <p:nvPr/>
        </p:nvGraphicFramePr>
        <p:xfrm>
          <a:off x="5214960" y="1981080"/>
          <a:ext cx="26766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4960" y="1981080"/>
                    <a:ext cx="26766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Pneu Rad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Diminui a compactação do so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Reduz a patinag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Aumenta a produtiv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Diminui o consu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Melhora o conforto e a flexibil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Object 4"/>
          <p:cNvGraphicFramePr/>
          <p:nvPr/>
        </p:nvGraphicFramePr>
        <p:xfrm>
          <a:off x="5214960" y="1981080"/>
          <a:ext cx="26766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4960" y="1981080"/>
                    <a:ext cx="26766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NO FLANCO DO PNEU, ENCONTRAMOS ALGUNS NÚMEROS E LETRAS QUE IDENTIFICAM AS MEDIDAS DE UM PNE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685800" y="3027240"/>
            <a:ext cx="3809880" cy="20210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MEDIDAS DE UM PN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MEDIDAS DE UM PN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O Primeiro número  que encontramos identifica a largura total do pneu (em mms ou polegad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4"/>
          <p:cNvSpPr/>
          <p:nvPr/>
        </p:nvSpPr>
        <p:spPr>
          <a:xfrm rot="19832400">
            <a:off x="990720" y="3885840"/>
            <a:ext cx="6858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4190760" cy="3938760"/>
          </a:xfrm>
          <a:prstGeom prst="rect">
            <a:avLst/>
          </a:prstGeom>
          <a:ln w="0">
            <a:noFill/>
          </a:ln>
        </p:spPr>
      </p:pic>
      <p:sp>
        <p:nvSpPr>
          <p:cNvPr id="87" name="Oval 6"/>
          <p:cNvSpPr/>
          <p:nvPr/>
        </p:nvSpPr>
        <p:spPr>
          <a:xfrm rot="978600">
            <a:off x="1904760" y="4648320"/>
            <a:ext cx="304560" cy="1295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7"/>
          <p:cNvSpPr/>
          <p:nvPr/>
        </p:nvSpPr>
        <p:spPr>
          <a:xfrm flipH="1" flipV="1">
            <a:off x="2437920" y="457164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7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O 2º número identifica a série do pneu, ou se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A relação que existe entre a altura do flanco e a largura total do pne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685800" y="2209680"/>
            <a:ext cx="3809880" cy="3579840"/>
          </a:xfrm>
          <a:prstGeom prst="rect">
            <a:avLst/>
          </a:prstGeom>
          <a:ln w="0">
            <a:noFill/>
          </a:ln>
        </p:spPr>
      </p:pic>
      <p:sp>
        <p:nvSpPr>
          <p:cNvPr id="91" name="Oval 4"/>
          <p:cNvSpPr/>
          <p:nvPr/>
        </p:nvSpPr>
        <p:spPr>
          <a:xfrm rot="912600">
            <a:off x="1904760" y="4724280"/>
            <a:ext cx="304560" cy="1143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5"/>
          <p:cNvSpPr/>
          <p:nvPr/>
        </p:nvSpPr>
        <p:spPr>
          <a:xfrm flipH="1" flipV="1">
            <a:off x="2666880" y="434304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MEDIDAS DE UM PN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5335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O último nº identifica o diâmetro da jante (em polegad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685800" y="2247840"/>
            <a:ext cx="3809880" cy="3579840"/>
          </a:xfrm>
          <a:prstGeom prst="rect">
            <a:avLst/>
          </a:prstGeom>
          <a:ln w="0">
            <a:noFill/>
          </a:ln>
        </p:spPr>
      </p:pic>
      <p:sp>
        <p:nvSpPr>
          <p:cNvPr id="97" name="Oval 4"/>
          <p:cNvSpPr/>
          <p:nvPr/>
        </p:nvSpPr>
        <p:spPr>
          <a:xfrm rot="491400">
            <a:off x="1904760" y="4724280"/>
            <a:ext cx="380880" cy="1143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5"/>
          <p:cNvSpPr/>
          <p:nvPr/>
        </p:nvSpPr>
        <p:spPr>
          <a:xfrm flipH="1" flipV="1">
            <a:off x="2971440" y="40381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MEDIDAS DE UM PN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RESISTÊNCIA DO PN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É um dado importante, que está directamente liga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1- À velocidade máxima a que pode circ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2-À carga que pode suport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RESISTÊNCIA DO PN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Também é possível conhecê-la nos números identificados no pne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RESISTÊNCIA DO PN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A capacidade de carga é-nos dada por um número (116) que figura numa tabela univer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4648320" y="3027240"/>
            <a:ext cx="3809880" cy="2230560"/>
          </a:xfrm>
          <a:prstGeom prst="rect">
            <a:avLst/>
          </a:prstGeom>
          <a:ln w="0">
            <a:noFill/>
          </a:ln>
        </p:spPr>
      </p:pic>
      <p:sp>
        <p:nvSpPr>
          <p:cNvPr id="107" name="Line 5"/>
          <p:cNvSpPr/>
          <p:nvPr/>
        </p:nvSpPr>
        <p:spPr>
          <a:xfrm>
            <a:off x="7238880" y="3809880"/>
            <a:ext cx="763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RESISTÊNCIA DO PN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257800" y="198108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A velocidade máxima a que deve rodar é identificada por uma letra conjugada com um nº (A 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4495680" cy="2631960"/>
          </a:xfrm>
          <a:prstGeom prst="rect">
            <a:avLst/>
          </a:prstGeom>
          <a:ln w="0">
            <a:noFill/>
          </a:ln>
        </p:spPr>
      </p:pic>
      <p:sp>
        <p:nvSpPr>
          <p:cNvPr id="111" name="Line 5"/>
          <p:cNvSpPr/>
          <p:nvPr/>
        </p:nvSpPr>
        <p:spPr>
          <a:xfrm flipH="1">
            <a:off x="3733920" y="3581280"/>
            <a:ext cx="380880" cy="152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Script MT Bold"/>
              </a:rPr>
              <a:t>De nada serve ter muita potência no motor, se houver muita patinag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ineta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Vineta BT"/>
              </a:rPr>
              <a:t>Escolha o pneu cer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3" descr="D:\PFiles\MSOffice\Clipart\standard\stddir1\BD05175_.WMF"/>
          <p:cNvPicPr/>
          <p:nvPr/>
        </p:nvPicPr>
        <p:blipFill>
          <a:blip r:embed="rId1"/>
          <a:stretch/>
        </p:blipFill>
        <p:spPr>
          <a:xfrm>
            <a:off x="4648320" y="2301840"/>
            <a:ext cx="3809880" cy="347184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4"/>
          <p:cNvSpPr/>
          <p:nvPr/>
        </p:nvSpPr>
        <p:spPr>
          <a:xfrm>
            <a:off x="1523880" y="762120"/>
            <a:ext cx="6934320" cy="1295280"/>
          </a:xfrm>
          <a:prstGeom prst="wedgeEllipseCallout">
            <a:avLst>
              <a:gd name="adj1" fmla="val 2587"/>
              <a:gd name="adj2" fmla="val 23786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A POTÊNCIA DO MOTOR TEM QUE SER TRANSMITIDA AO S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RESISTÊNCIA DO PN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10516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A resistência pode ainda aparecer no pneu identificado pelas letras </a:t>
            </a:r>
            <a:r>
              <a:rPr b="0" lang="pt-PT" sz="2800" spc="-1" strike="noStrike">
                <a:solidFill>
                  <a:srgbClr val="000000"/>
                </a:solidFill>
                <a:latin typeface="Futura XBlk BT"/>
              </a:rPr>
              <a:t>PR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 seguidas de um número que identifica o nº de camadas de lona do pneu (PR 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4572000" cy="2676240"/>
          </a:xfrm>
          <a:prstGeom prst="rect">
            <a:avLst/>
          </a:prstGeom>
          <a:ln w="0">
            <a:noFill/>
          </a:ln>
        </p:spPr>
      </p:pic>
      <p:sp>
        <p:nvSpPr>
          <p:cNvPr id="115" name="Oval 5"/>
          <p:cNvSpPr/>
          <p:nvPr/>
        </p:nvSpPr>
        <p:spPr>
          <a:xfrm>
            <a:off x="3352680" y="3505320"/>
            <a:ext cx="533520" cy="533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 rot="2345400">
            <a:off x="3351600" y="365724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PT" sz="1400" spc="-1" strike="noStrike">
                <a:solidFill>
                  <a:srgbClr val="000000"/>
                </a:solidFill>
                <a:latin typeface="Times New Roman"/>
              </a:rPr>
              <a:t>PR 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3276720" y="350532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3657600" y="3962520"/>
            <a:ext cx="2286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Oval 9"/>
          <p:cNvSpPr/>
          <p:nvPr/>
        </p:nvSpPr>
        <p:spPr>
          <a:xfrm>
            <a:off x="3048120" y="3276720"/>
            <a:ext cx="304560" cy="304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0"/>
          <p:cNvSpPr/>
          <p:nvPr/>
        </p:nvSpPr>
        <p:spPr>
          <a:xfrm flipH="1">
            <a:off x="3733920" y="3505320"/>
            <a:ext cx="380880" cy="22860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FUNÇÕES DO PN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Suportar a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Transmitir as forças de aceleração e travag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Dirigir o veí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Participar na suspensão e no confor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Participar na estabil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Transmitir inform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Consumir a menor energia possí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4" descr="D:\PFiles\MSOffice\Clipart\standard\stddir1\BD05175_.WMF"/>
          <p:cNvPicPr/>
          <p:nvPr/>
        </p:nvPicPr>
        <p:blipFill>
          <a:blip r:embed="rId1"/>
          <a:stretch/>
        </p:blipFill>
        <p:spPr>
          <a:xfrm>
            <a:off x="5486400" y="1981080"/>
            <a:ext cx="320040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PNE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CARACTERIZAÇÃO DOS VÁRIOS TIPOS DE PN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MEDIDAS DOS PN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RESISTÊNCIA DE UM PNE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2"/>
          <p:cNvSpPr/>
          <p:nvPr/>
        </p:nvSpPr>
        <p:spPr>
          <a:xfrm>
            <a:off x="2438280" y="1600200"/>
            <a:ext cx="5410440" cy="36576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cc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808080"/>
                </a:solidFill>
                <a:latin typeface="Times New Roman"/>
              </a:rPr>
              <a:t>VAMOS CONHECER UM PNE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VEJAMOS UM PNEU EM COR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Banda de rola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Lonas ou te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Tal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Bojo ou flan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Object 4"/>
          <p:cNvGraphicFramePr/>
          <p:nvPr/>
        </p:nvGraphicFramePr>
        <p:xfrm>
          <a:off x="5229360" y="1981080"/>
          <a:ext cx="26463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29360" y="1981080"/>
                    <a:ext cx="26463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1905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OS PNEUS PODEM CLASSIFICAR-SE PELA SUA ESTRUTU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PNEU RAD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PNEU DIAG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Pneu Diag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A BANDA DE ROLAMENTO ESTÁ SOLIDÁRIA COM OS FLANC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t-PT" sz="2800" spc="-1" strike="noStrike">
                <a:solidFill>
                  <a:srgbClr val="000000"/>
                </a:solidFill>
                <a:latin typeface="Swis721 BdOul BT"/>
              </a:rPr>
              <a:t>DAÍ RESUL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5189400" y="1981080"/>
            <a:ext cx="2727360" cy="41148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Pneu Diag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Fricção com o so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Desgaste mais ráp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Menor aderê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Consumo de combustível mais elev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5189400" y="1981080"/>
            <a:ext cx="2727360" cy="4114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7T17:27:38Z</dcterms:created>
  <dc:creator>DRARO</dc:creator>
  <dc:description/>
  <dc:language>en-US</dc:language>
  <cp:lastModifiedBy>Vitor Miguel Figueiredo</cp:lastModifiedBy>
  <cp:lastPrinted>2000-12-02T11:36:32Z</cp:lastPrinted>
  <dcterms:modified xsi:type="dcterms:W3CDTF">2017-03-02T11:38:43Z</dcterms:modified>
  <cp:revision>5</cp:revision>
  <dc:subject/>
  <dc:title>ARCO DE SEGURANÇA OU PÓRTICO</dc:title>
</cp:coreProperties>
</file>